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46A-F271-47A2-9402-AAC59A67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D75-205F-4798-BFFB-584C3EEC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DD8-AEEB-4406-8DF4-B586894E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1D7-04AF-4868-AA2A-933E4A5D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C46-7763-45C9-86DB-4578332B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8AAE-954C-4A04-B88C-A33FFDD9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E27F-9B82-41B6-9FD2-DBC8C9B6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AEF-4A9F-4B8F-AA2D-93E4E07C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0C8-D0F8-4F11-B57E-547EA8E8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519-C286-44D8-B767-2822025D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99F-5333-400F-B620-8ABD1C96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308-8C0C-413C-B317-6C6FCB46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AB5A-0C33-4E3C-BB5D-2D9C57733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a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a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1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a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2468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a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a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a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a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a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5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6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9a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8:09:52Z</dcterms:created>
  <dc:creator>fkalfoun</dc:creator>
  <dc:description/>
  <dc:language>en-US</dc:language>
  <cp:lastModifiedBy>fkalfoun</cp:lastModifiedBy>
  <dcterms:modified xsi:type="dcterms:W3CDTF">2006-03-29T08:18:36Z</dcterms:modified>
  <cp:revision>1</cp:revision>
  <dc:subject/>
  <dc:title>Présentation PowerPoint</dc:title>
</cp:coreProperties>
</file>