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31D6-ADE3-4E39-B302-2307F2338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5964-3684-425A-825C-45472942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5E61-EE2B-403E-97F3-812199A2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DC45-6000-4678-86C0-01A956FB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D368-B9F2-4058-BB18-4E73C662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DCFA-6294-408A-BB55-95F621DC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9E94-9239-4F0A-9F31-D23B2244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6C9E-725B-4F09-98CD-0450A5F5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94A0-602C-4FD9-97DE-55C39007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B9B2-34A3-46B5-8854-80A10D63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A400-1979-42F0-A24A-E0199ABF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8246-2D67-4D11-9194-DCF30D0D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7AFA-80E5-4E88-A7E8-B5FFDAF19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1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3152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0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30556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2a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784836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3a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800100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4a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1625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5a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16256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6a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7924680" cy="59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7a" descr=""/>
          <p:cNvPicPr/>
          <p:nvPr/>
        </p:nvPicPr>
        <p:blipFill>
          <a:blip r:embed="rId1"/>
          <a:stretch/>
        </p:blipFill>
        <p:spPr>
          <a:xfrm>
            <a:off x="304920" y="227160"/>
            <a:ext cx="830556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8a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925040" cy="59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9a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925040" cy="59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0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20a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3915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21a" descr=""/>
          <p:cNvPicPr/>
          <p:nvPr/>
        </p:nvPicPr>
        <p:blipFill>
          <a:blip r:embed="rId1"/>
          <a:stretch/>
        </p:blipFill>
        <p:spPr>
          <a:xfrm>
            <a:off x="1905120" y="152280"/>
            <a:ext cx="49719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3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0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5a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77240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06a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54380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07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8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777240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9a" descr=""/>
          <p:cNvPicPr/>
          <p:nvPr/>
        </p:nvPicPr>
        <p:blipFill>
          <a:blip r:embed="rId1"/>
          <a:stretch/>
        </p:blipFill>
        <p:spPr>
          <a:xfrm>
            <a:off x="213372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8:09:52Z</dcterms:created>
  <dc:creator>fkalfoun</dc:creator>
  <dc:description/>
  <dc:language>en-US</dc:language>
  <cp:lastModifiedBy>fkalfoun</cp:lastModifiedBy>
  <dcterms:modified xsi:type="dcterms:W3CDTF">2006-03-29T08:18:36Z</dcterms:modified>
  <cp:revision>1</cp:revision>
  <dc:subject/>
  <dc:title>Présentation PowerPoint</dc:title>
</cp:coreProperties>
</file>