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5CB-B9B1-49E9-8AFF-3621E4F4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CCE-4C5E-469C-9003-D3B596B2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CFB-2E6A-4189-81BD-6CE497C4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9DBD-C533-44BA-901B-8ED723B1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076-A1C9-4559-AA80-3BBC3176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DD00-039C-4045-A498-1F71366A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CFF-5538-4EB3-8221-DB13322B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B5F2-3820-4F9A-85E1-287A4485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3F24-65AB-4D4E-B372-5D515A12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DB2C-C3E6-46DC-B3DA-3EEE3635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0C9-FB55-444D-9E9C-7E3C0F7B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4CD-C07B-4938-B18F-33FC6492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0638-3BD8-4EEE-991E-580B193E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0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12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3a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4a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1625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a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71625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6a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92468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17a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8305560" cy="62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8a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92504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19a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925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20a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391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21a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49719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5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06a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7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08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7724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9a" descr=""/>
          <p:cNvPicPr/>
          <p:nvPr/>
        </p:nvPicPr>
        <p:blipFill>
          <a:blip r:embed="rId1"/>
          <a:stretch/>
        </p:blipFill>
        <p:spPr>
          <a:xfrm>
            <a:off x="213372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8:09:52Z</dcterms:created>
  <dc:creator>fkalfoun</dc:creator>
  <dc:description/>
  <dc:language>en-US</dc:language>
  <cp:lastModifiedBy>fkalfoun</cp:lastModifiedBy>
  <dcterms:modified xsi:type="dcterms:W3CDTF">2006-03-29T08:18:36Z</dcterms:modified>
  <cp:revision>1</cp:revision>
  <dc:subject/>
  <dc:title>Présentation PowerPoint</dc:title>
</cp:coreProperties>
</file>