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944A-CDAF-4D6A-85CA-F79401AD5C9B}" type="slidenum"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rétaceinfScot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oumaziere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5A6-C376-4F43-BDE8-310A4782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D3E-DFB2-4173-AA74-F225FC2B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504-FFA1-40FB-83A1-298F55DA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B4B-C8CF-4D8A-BB3C-D1FCD32D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4BD-4915-4EB0-B90F-85719DF2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883-1075-4041-B091-8A37A57F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3D6-8B8C-4EBA-9E26-3CD54908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D86-9AC4-4797-A202-3669F10E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DE2-E129-4956-8127-DCDCA9EE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761-94CA-4487-A411-ECB754BD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A98-3FD6-48F8-B71A-B48D7F0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041-B373-4286-9BD0-A2499443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8256-44B9-46A9-A2DF-778D4F6DD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Pertinence de quelques critères</a:t>
            </a:r>
            <a:r>
              <a:rPr b="0" lang="fr-FR" sz="4400" spc="-1" strike="noStrike">
                <a:solidFill>
                  <a:srgbClr val="dfd293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sédimentologiques</a:t>
            </a:r>
            <a:r>
              <a:rPr b="0" lang="fr-FR" sz="4400" spc="-1" strike="noStrike">
                <a:solidFill>
                  <a:srgbClr val="dfd29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en paléoclima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Steinberg Professeur Emérite Université de Paris-Sud (Ors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000" y="5557680"/>
            <a:ext cx="708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lendonite = CaC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 6 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, stable à t° ≤0°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ropstone : dépôt apporté par glaces flottantes (quelque soit la granulométrie). Niveaux de Heinrich = drop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8070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800" spc="-1" strike="noStrike">
              <a:solidFill>
                <a:srgbClr val="d92130"/>
              </a:solidFill>
              <a:latin typeface="Genev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93160" cy="449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9213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Geneva"/>
              </a:rPr>
              <a:t>Ou trouve-t-on du lo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47000" cy="437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neva"/>
              </a:rPr>
              <a:t>Comment se forme et évolue le loes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2880" y="1219320"/>
            <a:ext cx="7518240" cy="563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d1587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1587"/>
                </a:solidFill>
                <a:latin typeface="Geneva"/>
              </a:rPr>
              <a:t>Comment distinguer loess et sol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23120" cy="563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158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1587"/>
                </a:solidFill>
                <a:latin typeface="Times New Roman"/>
              </a:rPr>
              <a:t>Terrible, il y a des inversions magnétiques mais pour dat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48400" cy="5217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13840" cy="4762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83400" cy="552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Août -18.000 ans sur notre planète englac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989680" cy="5105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73880" cy="4608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685800" y="1165320"/>
            <a:ext cx="7772400" cy="43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000" y="5445000"/>
            <a:ext cx="708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6520" y="887400"/>
            <a:ext cx="8129520" cy="5081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Chaud et sec : Sud de la Tuni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682640"/>
            <a:ext cx="3809880" cy="250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433680" cy="257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d1587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1587"/>
                </a:solidFill>
                <a:latin typeface="Geneva"/>
              </a:rPr>
              <a:t>Il ne semble pas faire aussi cha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268880" cy="2803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4027680" cy="3263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e climat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 30 ans près du Lac Clinton (Cana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68320" y="685800"/>
            <a:ext cx="7558200" cy="47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Surface du sel = 3000 x 8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Epaisseur : 1000 à 250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Volume estimé : 1 million de k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37120" cy="517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2990880" cy="6811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6019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changement du milieu agit sur la fa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689360" cy="5810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121520" y="521028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Bilan actuel de la Méditerrané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Apports (pluies, fleuves …)  6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Pertes (évaporation)   15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Déficit 9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Compensations :apports de l’Atlantique et de la Mer No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Pour assécher la Grande Bleue, il suffit de fermer Gibraltar et le Bosph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458200" y="1981080"/>
            <a:ext cx="76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9213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92130"/>
                </a:solidFill>
                <a:latin typeface="Geneva"/>
              </a:rPr>
              <a:t>Vallée de la Cèze (affluent du R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449424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62680" y="2819520"/>
            <a:ext cx="4081320" cy="3062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88280" cy="4618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000" y="5638680"/>
            <a:ext cx="595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0663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Légende de l’atla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Times New Roman"/>
              </a:rPr>
              <a:t>Traduction (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cc3300"/>
                </a:solidFill>
                <a:latin typeface="Times New Roman"/>
              </a:rPr>
              <a:t>Une seule catégorie de charbons qui seraient nécessairement associés à des crocodi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28987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18000" cy="21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351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4000" y="5638680"/>
            <a:ext cx="595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629320" cy="5699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18120" cy="5091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3203640" cy="5084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d1587"/>
                </a:solidFill>
                <a:latin typeface="Times New Roman"/>
              </a:rPr>
              <a:t>Légende de l’atlas 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Times New Roman"/>
              </a:rPr>
              <a:t>Traduction (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d1587"/>
                </a:solidFill>
                <a:latin typeface="Times New Roman"/>
              </a:rPr>
              <a:t>Bauxite &amp; latérite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d1587"/>
                </a:solidFill>
                <a:latin typeface="Times New Roman"/>
              </a:rPr>
              <a:t>Argiles rou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89872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346040" y="4114800"/>
            <a:ext cx="2943360" cy="234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8332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923760"/>
            <a:ext cx="7772400" cy="485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ile roug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38320" y="1981080"/>
            <a:ext cx="506736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d1587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2152800" cy="1981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d158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d1587"/>
                </a:solidFill>
                <a:latin typeface="Times New Roman"/>
              </a:rPr>
              <a:t>Légende de l’atlas 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92130"/>
                </a:solidFill>
                <a:latin typeface="Times New Roman"/>
              </a:rPr>
              <a:t>Calcrète = Calc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92130"/>
                </a:solidFill>
                <a:latin typeface="Times New Roman"/>
              </a:rPr>
              <a:t>Ben mon col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46040" y="4114800"/>
            <a:ext cx="2897280" cy="230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Calcrète Maro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607080" cy="443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2:02:56Z</dcterms:created>
  <dc:creator>Michel Steinberg</dc:creator>
  <dc:description/>
  <dc:language>en-US</dc:language>
  <cp:lastModifiedBy>fkalfoun</cp:lastModifiedBy>
  <dcterms:modified xsi:type="dcterms:W3CDTF">2004-09-03T13:52:07Z</dcterms:modified>
  <cp:revision>58</cp:revision>
  <dc:subject/>
  <dc:title>Présentation PowerPoint  -  Utilité de quelques critères sédimentologiques  en paléoclimatologie</dc:title>
</cp:coreProperties>
</file>