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B8E9-A94F-4590-933F-C525A16EC91D}" type="slidenum"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rétaceinfScot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oumaziere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FEE-B6A8-4E19-A459-670EC07F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4BC-E8AD-421F-A69D-76E135B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BA7-5FFF-4386-A695-D1D30AFD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9A9-1170-40E5-A3F5-504E006E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C2F-E5D8-47A3-984A-5C04C605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728-073A-417E-A6A7-31F582A4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AAE-0573-4B9D-9147-04EDCC4F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9EA-358E-4983-B8B8-D1C1393F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3E6-8554-4612-84BE-91A5C97E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924-53BA-4E24-958D-06031D1A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41E-E273-4BD0-99DB-306EB35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9F4-5CA4-4C2B-91DA-6F7004A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FDE6-2D27-409C-B5B7-C7FCFF482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Pertinence de quelques critèr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sédimentologiqu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en paléoclima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Steinberg Professeur Emérite Université de Paris-Sud (Ors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000" y="555768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lendonite = CaC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 6 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, stable à t° ≤0°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ropstone : dépôt apporté par glaces flottantes (quelque soit la granulométrie). Niveaux de Heinrich = drop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8070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d92130"/>
              </a:solidFill>
              <a:latin typeface="Genev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93160" cy="449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Geneva"/>
              </a:rPr>
              <a:t>Ou trouve-t-on du lo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47000" cy="437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neva"/>
              </a:rPr>
              <a:t>Comment se forme et évolue le loes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2880" y="1219320"/>
            <a:ext cx="751824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Comment distinguer loess et sol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23120" cy="563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1587"/>
                </a:solidFill>
                <a:latin typeface="Times New Roman"/>
              </a:rPr>
              <a:t>Terrible, il y a des inversions magnétiques mais pour dat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48400" cy="5217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13840" cy="4762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83400" cy="552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oût -18.000 ans sur notre planète englac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989680" cy="5105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73880" cy="460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685800" y="1165320"/>
            <a:ext cx="7772400" cy="43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000" y="544500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6520" y="887400"/>
            <a:ext cx="8129520" cy="5081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haud et sec : Sud de la Tuni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682640"/>
            <a:ext cx="3809880" cy="250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433680" cy="257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Il ne semble pas faire aussi ch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268880" cy="280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4027680" cy="3263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e climat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 30 ans près du Lac Clinton (Cana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68320" y="685800"/>
            <a:ext cx="7558200" cy="47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Surface du sel = 3000 x 8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Epaisseur : 1000 à 25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Volume estimé : 1 million de k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37120" cy="517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2990880" cy="6811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6019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changement du milieu agit sur la fa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89360" cy="5810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121520" y="521028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Bilan actuel de la Méditerrané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pports (pluies, fleuves …)  6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ertes (évaporation)   15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Déficit 9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ompensations :apports de l’Atlantique et de la Mer N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our assécher la Grande Bleue, il suffit de fermer Gibraltar et le Bosph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458200" y="1981080"/>
            <a:ext cx="76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Geneva"/>
              </a:rPr>
              <a:t>Vallée de la Cèze (affluent du R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49424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62680" y="2819520"/>
            <a:ext cx="4081320" cy="3062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88280" cy="4618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0663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Légende de l’atla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cc3300"/>
                </a:solidFill>
                <a:latin typeface="Times New Roman"/>
              </a:rPr>
              <a:t>Une seule catégorie de charbons qui seraient nécessairement associés à des crocodi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1800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351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629320" cy="5699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8120" cy="5091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3203640" cy="508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Bauxite &amp; latérite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Argiles rou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943360" cy="234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833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923760"/>
            <a:ext cx="7772400" cy="485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ile roug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38320" y="1981080"/>
            <a:ext cx="506736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d1587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215280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Times New Roman"/>
              </a:rPr>
              <a:t>Calcrète = Calc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92130"/>
                </a:solidFill>
                <a:latin typeface="Times New Roman"/>
              </a:rPr>
              <a:t>Ben mon col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897280" cy="230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Calcrète Maro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607080" cy="443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2:02:56Z</dcterms:created>
  <dc:creator>Michel Steinberg</dc:creator>
  <dc:description/>
  <dc:language>en-US</dc:language>
  <cp:lastModifiedBy>fkalfoun</cp:lastModifiedBy>
  <dcterms:modified xsi:type="dcterms:W3CDTF">2004-09-03T13:52:07Z</dcterms:modified>
  <cp:revision>58</cp:revision>
  <dc:subject/>
  <dc:title>Présentation PowerPoint  -  Utilité de quelques critères sédimentologiques  en paléoclimatologie</dc:title>
</cp:coreProperties>
</file>