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89EB-C8F4-49EE-A0B0-40E7226E9F0A}" type="slidenum"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étaceinfSco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umaziere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EA9-BFFD-477F-9BA6-21099268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482-F307-438D-9D8C-A137CB01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F9E-ADC8-4DD3-A7D7-2FBC37AE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B4A-2D8E-4885-BB47-A13C31B1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3E3-CDD9-4CF7-97BE-B4903657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458-1076-4AD5-9CD0-3C8DE6CB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3B1-5F65-40FE-845D-B8C21FA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B9C-49B9-4F6C-8E94-4FFC50C1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04B-9F8D-4841-A5BE-7AA81B67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03F-5B96-4110-BA84-3A6A905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928-1255-4D71-B4F4-8B95CC9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74C-A73D-4825-AF50-8683AB4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45F2-6869-4E29-A649-68680AAD8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Pertinence de quelques critèr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sédimentologiqu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en paléoclima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Steinberg Professeur Emérite Université de Paris-Sud (Ors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555768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endonite = CaC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6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, stable à t° ≤0°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opstone : dépôt apporté par glaces flottantes (quelque soit la granulométrie). Niveaux de Heinrich = drop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07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d92130"/>
              </a:solidFill>
              <a:latin typeface="Genev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931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Geneva"/>
              </a:rPr>
              <a:t>Ou trouve-t-on du lo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4700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neva"/>
              </a:rPr>
              <a:t>Comment se forme et évolue le loes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2880" y="121932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Comment distinguer loess et sol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23120" cy="563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587"/>
                </a:solidFill>
                <a:latin typeface="Times New Roman"/>
              </a:rPr>
              <a:t>Terrible, il y a des inversions magnétiques mais pour da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48400" cy="521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13840" cy="476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83400" cy="552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oût -18.000 ans sur notre planète englac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98968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73880" cy="460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685800" y="1165320"/>
            <a:ext cx="7772400" cy="43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6520" y="887400"/>
            <a:ext cx="8129520" cy="508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haud et sec : Sud de la Tuni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8264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Il ne semble pas faire aussi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268880" cy="280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027680" cy="326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 cli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 30 ans près du Lac Clinton (Can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68320" y="685800"/>
            <a:ext cx="755820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Surface du sel = 3000 x 8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Epaisseur : 1000 à 25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Volume estimé : 1 million de k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37120" cy="517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2990880" cy="6811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changement du milieu agit sur la fa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8936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21520" y="521028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Bilan actuel de la Méditerra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pports (pluies, fleuves …)  6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ertes (évaporation)   15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Déficit 9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ompensations :apports de l’Atlantique et de la Mer N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our assécher la Grande Bleue, il suffit de fermer Gibraltar et le Bosp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76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Geneva"/>
              </a:rPr>
              <a:t>Vallée de la Cèze (affluent du R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49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62680" y="2819520"/>
            <a:ext cx="4081320" cy="306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88280" cy="4618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Légende de l’atla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Une seule catégorie de charbons qui seraient nécessairement associés à des crocodi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1800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351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629320" cy="569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203640" cy="508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Bauxite &amp; latérite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Argiles rou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943360" cy="23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833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ile roug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8320" y="1981080"/>
            <a:ext cx="50673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d1587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21528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Times New Roman"/>
              </a:rPr>
              <a:t>Calcrète = Calc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2130"/>
                </a:solidFill>
                <a:latin typeface="Times New Roman"/>
              </a:rPr>
              <a:t>Ben mon col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8972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Calcrète Maro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607080" cy="44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2:02:56Z</dcterms:created>
  <dc:creator>Michel Steinberg</dc:creator>
  <dc:description/>
  <dc:language>en-US</dc:language>
  <cp:lastModifiedBy>fkalfoun</cp:lastModifiedBy>
  <dcterms:modified xsi:type="dcterms:W3CDTF">2004-09-03T13:52:07Z</dcterms:modified>
  <cp:revision>58</cp:revision>
  <dc:subject/>
  <dc:title>Présentation PowerPoint  -  Utilité de quelques critères sédimentologiques  en paléoclimatologie</dc:title>
</cp:coreProperties>
</file>